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8440-2D51-430D-ABF2-E0B2D2A8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2032-B150-4FBF-A968-B0E97C6A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AA1E7D-98A5-40A3-93DC-D562C23D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A36BCB-ECA8-4479-8073-65D14210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AFFE67-6B09-4221-9B35-E640848C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F69130-12FD-498E-BE68-08DA8323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98333A-457E-4471-895D-936E1B56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95C385-123D-4312-A365-A4121FC4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01B9DF-9AD4-44D5-8AAD-993E35A5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3F21DA-AA55-487A-B8AD-7C5DCC42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3F970D-DB0E-4CCD-B881-0D9C295C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76442C-22BE-47D9-BD20-1A5539B1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E284-AC97-4441-AE27-5DC38726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5D4D42-44A0-4F30-8933-BEFA60CB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EE4882-E7A1-4F13-BB31-A460D6D8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9C652B-1A59-42EB-85F1-68ED4BF5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419219-4C4C-4986-87F9-9616B5F3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5B993C-4704-468F-857D-58C01944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32420E-7E55-4715-B090-3DD85996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60685C-C3EC-402F-B793-AE871A7C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71239C-7A03-48D2-A625-F971176F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D8FF85-C9B4-4659-9773-3E43C02E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4BA52E-7231-4129-859F-64A52753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753B-9923-4EDB-A14C-B34A5B47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A167F3-3ABB-48BB-A8C2-B6766ADE3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4EF2B-00A3-451D-8275-09A56F3D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4DB2E-508C-4FD4-A080-09530C7E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76095-B1A1-48E9-9955-FC2951EF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5370F-1691-4985-9CA3-5E3EC1AD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E294F-F861-4BFE-B4E7-044905B3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29361-22A1-4457-BBE2-53B8FD0C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2D33E-D428-4968-BDCE-4FBC2966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C7BD2-8029-450B-8B0D-D030C233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965D8-6DEF-4F7B-AFF0-26046AC5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CEDA-55BE-4B0D-A1A2-C263CDF6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0EB31-CB84-41C7-AFCF-CF2A1A34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963B5-4C3E-4A2D-820A-50504F52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C5218-E325-46CE-A163-600861D6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54BE9C-E6B9-42F0-88EB-726E3741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063726-7829-4177-ACC3-00A1C831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F2B111-61D4-410A-871F-88D5EB50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32019E-D8BF-4DAD-9B26-61E73428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5FDFCA-E596-453C-90E8-7D26FFEE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15439E-BC73-4A48-80E7-22ED3457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38840D-6E13-4461-85CB-4BA57674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9730-EC69-431D-BCEF-33EF020B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6306BB-39E5-477B-B19F-A2537DAB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D3C19E-5DAC-4F62-81F6-FAF9A4D2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63CF42-22C5-4C36-B30F-73CF1916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8C8DA5-408C-423C-8DC5-8B3649EB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64A453-576C-421C-8311-DDA6FD4E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3F23-F764-47DC-AE0A-AA4D7984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F7C8-7E3C-49D1-944A-861A3CFF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46F3-BE4C-4F7B-900B-6F854AE0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80C1-90BC-46AD-A9D8-2985219C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5197-052D-4A88-8A78-D86708C0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1F95-EF06-440A-97BA-D6E49EF7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AE3D-4087-43D6-A610-66651160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139D-2C6E-4558-9434-90E74658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1FED-85D7-4887-B6A6-358D1ADE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A65C-3E3A-40C3-A47F-EA65F08E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3463-A222-4A77-B76D-71C010DC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59612-13AC-4F61-B36F-D29F7145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DC4E5-965B-45F5-B19C-0E0D1770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D3DEF-5050-42FE-A0B3-519A6D2B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87EDD-3760-436B-A589-E7EC83DD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41146-75EA-4EDF-A2C3-4A85097C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6D84-2449-45DC-A55B-B9B5AFD8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24CF0-C07F-4E84-B4D8-77B961F7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E21E1-F6E6-45E7-AAAD-C8694848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6304B-DAAF-42B1-9A65-AD23D65F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834CB-A93D-47E3-B01E-C1999A85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47275-5C60-45B9-99A2-BD197B84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EB21E-AE30-4C8C-98C1-12E9DA66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42D02-BA79-4FB2-B86F-B294F978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10C8B-C2CA-4DE5-87FF-9F2C1D69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3E5E2-235E-4EBD-90E0-BB3E821C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F13EF-FDCE-4B59-B088-EF3B9D8F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3C2A-05CA-4551-8EDF-7A033CB0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6A958-8978-4FBC-9E4C-25AE14A6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830F1-2749-4D65-9F36-3E5A7A70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386AB-AE25-4E95-92CB-96151DD1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8D800-49D7-4C7E-8D4B-77F79AEF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69497-CE81-4C8C-9CB8-284F4379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2B915-86BF-4032-BCA1-DBE19700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3F427-B80B-476F-B168-EFB6FF13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B1AC5-7343-4C29-A712-48E80509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7F722-7E9A-4456-BBCD-3FBA1E69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6046F-2EC7-4054-B1C1-53383750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EA6E-6800-4A58-9AD1-9CC34ABA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39268-7007-424A-BE2D-4B13B494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A2540-1F99-4F5F-A312-A2308A97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4B56C-99D0-46A2-801E-D71150D2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B2A64-461C-407E-8721-FAA5FF84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AE9DE-9AC0-4430-BC84-097509A3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35A04-46D4-43C3-AE9C-569106B7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7980B-6942-4B28-8201-DE35EB32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993D8-E6FF-48AF-B94E-313B0219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B1818-1B0D-4CEA-B963-B75DE086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FFA4D-5619-4423-8510-653CDB3A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3584-8F17-419A-90D2-FB5BC3BC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C5E2E-9F43-4583-A20A-90DB61A9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5E55B-2109-4A94-98DC-33DF13DD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9B0EB-7849-411E-95BA-C87A2FAE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7D188-91BD-40C3-9B11-80A72C3C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1C4CB-494E-4026-83E5-FF2D643A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47C79-0831-4B15-AF1D-B253DDB2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4A2AF-A350-4DF9-B9CD-413E8604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75460-69CD-4D65-A369-27D59804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7025A-8CD5-415C-BA07-F3E5CAF8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19732-7471-49C7-9959-3E0E3EF8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9697-04CC-46D2-9218-BE716523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F3030-4D1A-4CFC-9E90-65257671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184D9-AB6E-4320-A3D2-9CB20609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72C21-7DD4-4C1D-8AE2-B1CD2BE4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A6F7E-1E8A-445D-AA7D-3F811924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BE249-01B9-4282-B0B4-ED0B39AC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75D62-8877-4E5F-942D-8EDD36A0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CC15E-700A-4453-A9B5-59CA1D48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EAA1C-3378-479B-B63A-3780C6D2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D196E-9B24-41AC-9B17-50FC6EA3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9070C-743B-4EF0-A85A-98C3A014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2322-95FB-4758-8CB5-37412723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81F69-2DA1-4081-B684-B9BD0AE7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E9F35-6608-4618-972E-C1679B72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D563A-A2E7-4AAD-8C52-1A9BBFD1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6B167-B3AE-4606-A0B4-70FDC5160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2120F-CD0C-44D6-BE8C-3DA2CEE7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ABB6A-EB52-4C1B-9F59-47F55E65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BC514-F1D2-449C-917C-8200ACC5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C3AA5-1A35-459E-9490-16D97750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0C07C-639D-40EE-AE4B-47617433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FA1E2-9DD8-4A3B-B8E1-DF61BD5B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F556-D0CE-486F-804A-C3B8BB26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C8DF0-33DE-4177-84D0-296F2CFE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9AF5B-B243-4C70-9D1C-2D23EFFD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0FEA6-DFBA-42C8-9565-1791EC47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1EF03-9221-4E05-8EDC-841E04E6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396D5-765A-4316-BE42-AA7E3BA0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29617-FAFD-4CF6-8951-42CE9503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2980D-EC49-4998-B6C6-29F0E3D4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74E18A-21C1-4BE1-8072-D4A5039B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484225-D441-49DB-8F15-9258BCD2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4B1F4D-76CA-4E5D-833E-FAF4B064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C14D-F6C3-4D92-BC5D-DFB987A33B7B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F54C-F8C9-42A3-8118-89B12815CE70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DAAA-7654-4D3E-9867-A3700AA1B18A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AF5E-C503-45F7-B1EB-E51D1AD31EB2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E5D9-3C0B-44BB-B899-06C31EFBD4A3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2EE1-5775-40DA-B92F-BD309CF4A1A7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BDF3-7F3A-49DF-A1E3-29F574C697B6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52B1-6B6A-4D6F-9FE0-3422A4915CDB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9822-2CA2-41A1-97D7-F7AA46C62F47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54B6-E457-4C5B-A567-7E883D1847DC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9C1B-E0DC-49A5-9E53-BD578406D133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AAE6-8FB7-459F-A78C-E2B05ACED066}" type="slidenum">
              <a:rPr b="0" lang="en-US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10" descr="istockphoto_1405302_breakdance_vecto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80520" y="19051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en-US" sz="2700" spc="-1" strike="noStrike" u="sng">
                <a:solidFill>
                  <a:srgbClr val="00ff00"/>
                </a:solidFill>
                <a:uFillTx/>
                <a:latin typeface="Hippo"/>
              </a:rPr>
              <a:t>Projec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Georgia"/>
              </a:rPr>
              <a:t>I will spend time teaching the basic’s of breakdance to the students who want to learn in the Simon Gratz dance studio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723920" y="1752120"/>
            <a:ext cx="403884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500" spc="-1" strike="noStrike" u="sng">
                <a:solidFill>
                  <a:srgbClr val="00ff00"/>
                </a:solidFill>
                <a:uFillTx/>
                <a:latin typeface="Hippo"/>
              </a:rPr>
              <a:t>Research pape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00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00ff00"/>
                </a:solidFill>
                <a:latin typeface="Georgia"/>
              </a:rPr>
              <a:t>I will research the history of breakdance and prove how breakdancing link and influence a lot of things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3" name="WordArt 11"/>
          <p:cNvSpPr txBox="1"/>
          <p:nvPr/>
        </p:nvSpPr>
        <p:spPr>
          <a:xfrm>
            <a:off x="1828800" y="6172200"/>
            <a:ext cx="5562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ff99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ippo"/>
              </a:rPr>
              <a:t>By BrAnDoN BrAdLeY</a:t>
            </a:r>
            <a:endParaRPr b="1" i="1" lang="en-US" sz="2800" spc="1" strike="noStrike">
              <a:ln w="12600">
                <a:solidFill>
                  <a:srgbClr val="ff99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ippo"/>
              <a:ea typeface="Hippo"/>
            </a:endParaRPr>
          </a:p>
        </p:txBody>
      </p:sp>
      <p:sp>
        <p:nvSpPr>
          <p:cNvPr id="674" name="WordArt 12"/>
          <p:cNvSpPr txBox="1"/>
          <p:nvPr/>
        </p:nvSpPr>
        <p:spPr>
          <a:xfrm>
            <a:off x="457200" y="304920"/>
            <a:ext cx="76201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99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ippo"/>
              </a:rPr>
              <a:t>   </a:t>
            </a:r>
            <a:r>
              <a:rPr b="1" i="1" lang="en-US" sz="1800" spc="1" strike="noStrike">
                <a:ln w="12600">
                  <a:solidFill>
                    <a:srgbClr val="ff99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ippo"/>
              </a:rPr>
              <a:t>HiStOrY oF BrEaKdAnCiNg</a:t>
            </a:r>
            <a:endParaRPr b="1" i="1" lang="en-US" sz="1800" spc="1" strike="noStrike">
              <a:ln w="12600">
                <a:solidFill>
                  <a:srgbClr val="ff99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ippo"/>
              <a:ea typeface="Hipp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22" descr="BasketballGa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 txBox="1"/>
          <p:nvPr/>
        </p:nvSpPr>
        <p:spPr>
          <a:xfrm>
            <a:off x="228600" y="18288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b400"/>
                </a:solidFill>
                <a:latin typeface="Georgia"/>
              </a:rPr>
              <a:t>            </a:t>
            </a:r>
            <a:r>
              <a:rPr b="0" lang="en-US" sz="2200" spc="-1" strike="noStrike">
                <a:solidFill>
                  <a:srgbClr val="ff9900"/>
                </a:solidFill>
                <a:latin typeface="Georgia"/>
              </a:rPr>
              <a:t>Projec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ffff00"/>
                </a:solidFill>
                <a:latin typeface="Georgia"/>
              </a:rPr>
              <a:t>I will spend time at basketball practices and games and I will work with the coaches, players and referees at a church basketball leagu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724280" y="198108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Georgia"/>
              </a:rPr>
              <a:t>Research Pap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I will research the history of basketball I will research the rules and regulations from the creator to the play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8" name="WordArt 13"/>
          <p:cNvSpPr txBox="1"/>
          <p:nvPr/>
        </p:nvSpPr>
        <p:spPr>
          <a:xfrm>
            <a:off x="1752480" y="6019920"/>
            <a:ext cx="5791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By Marcus Reed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679" name="WordArt 23"/>
          <p:cNvSpPr txBox="1"/>
          <p:nvPr/>
        </p:nvSpPr>
        <p:spPr>
          <a:xfrm>
            <a:off x="1371600" y="0"/>
            <a:ext cx="63244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History of Basketball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 txBox="1"/>
          <p:nvPr/>
        </p:nvSpPr>
        <p:spPr>
          <a:xfrm>
            <a:off x="533520" y="1523520"/>
            <a:ext cx="40384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Georgia"/>
              </a:rPr>
              <a:t>I WILL RESEARCH THE HISTORY OF GANGS / GANG VIOLENCE AND HOW ACTIVE GANGS ARE TODA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723920" y="152388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Georgia"/>
              </a:rPr>
              <a:t>PROJEC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cc0000"/>
                </a:solidFill>
                <a:latin typeface="Georgia"/>
              </a:rPr>
              <a:t>I WILL CREATE AND PRESENT AN AWARENESS PROGRAM FOR THE KIDS AT THE COMMUNITY CENTER IN MY NEIGHBORHOOD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                           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WordArt 11"/>
          <p:cNvSpPr txBox="1"/>
          <p:nvPr/>
        </p:nvSpPr>
        <p:spPr>
          <a:xfrm>
            <a:off x="2514600" y="152280"/>
            <a:ext cx="4419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"/>
              </a:rPr>
              <a:t>GANGS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"/>
              <a:ea typeface="comic"/>
            </a:endParaRPr>
          </a:p>
        </p:txBody>
      </p:sp>
      <p:pic>
        <p:nvPicPr>
          <p:cNvPr id="684" name="Picture 15" descr="harlem_crip"/>
          <p:cNvPicPr/>
          <p:nvPr/>
        </p:nvPicPr>
        <p:blipFill>
          <a:blip r:embed="rId2"/>
          <a:stretch/>
        </p:blipFill>
        <p:spPr>
          <a:xfrm>
            <a:off x="152280" y="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17" descr="kitchen_crip"/>
          <p:cNvPicPr/>
          <p:nvPr/>
        </p:nvPicPr>
        <p:blipFill>
          <a:blip r:embed="rId3"/>
          <a:stretch/>
        </p:blipFill>
        <p:spPr>
          <a:xfrm>
            <a:off x="7391520" y="152280"/>
            <a:ext cx="1600200" cy="15242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19" descr="piru_sign"/>
          <p:cNvPicPr/>
          <p:nvPr/>
        </p:nvPicPr>
        <p:blipFill>
          <a:blip r:embed="rId4"/>
          <a:stretch/>
        </p:blipFill>
        <p:spPr>
          <a:xfrm>
            <a:off x="7315200" y="4952880"/>
            <a:ext cx="1628640" cy="1752840"/>
          </a:xfrm>
          <a:prstGeom prst="rect">
            <a:avLst/>
          </a:prstGeom>
          <a:ln w="0">
            <a:noFill/>
          </a:ln>
        </p:spPr>
      </p:pic>
      <p:sp>
        <p:nvSpPr>
          <p:cNvPr id="687" name="WordArt 20"/>
          <p:cNvSpPr txBox="1"/>
          <p:nvPr/>
        </p:nvSpPr>
        <p:spPr>
          <a:xfrm>
            <a:off x="152280" y="5791320"/>
            <a:ext cx="72392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AVIS WHIT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25" descr="t_18471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 txBox="1"/>
          <p:nvPr/>
        </p:nvSpPr>
        <p:spPr>
          <a:xfrm>
            <a:off x="151920" y="3200400"/>
            <a:ext cx="40388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Georgia"/>
              </a:rPr>
              <a:t>Reasearc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Georgia"/>
              </a:rPr>
              <a:t>Through this project I plan learn the mysteries of electricity and how it became to be the soul of the univers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WordArt 20"/>
          <p:cNvSpPr txBox="1"/>
          <p:nvPr/>
        </p:nvSpPr>
        <p:spPr>
          <a:xfrm>
            <a:off x="609480" y="380880"/>
            <a:ext cx="7086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GoudyHandtooled BT"/>
              </a:rPr>
              <a:t>The Evolutio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GoudyHandtooled BT"/>
              <a:ea typeface="GoudyHandtooled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GoudyHandtooled BT"/>
              </a:rPr>
              <a:t>Electricit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GoudyHandtooled BT"/>
              <a:ea typeface="GoudyHandtooled BT"/>
            </a:endParaRPr>
          </a:p>
        </p:txBody>
      </p:sp>
      <p:sp>
        <p:nvSpPr>
          <p:cNvPr id="691" name="WordArt 27"/>
          <p:cNvSpPr txBox="1"/>
          <p:nvPr/>
        </p:nvSpPr>
        <p:spPr>
          <a:xfrm>
            <a:off x="1219320" y="6067440"/>
            <a:ext cx="61722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By Joy Johnson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2" name="Text Box 8"/>
          <p:cNvSpPr/>
          <p:nvPr/>
        </p:nvSpPr>
        <p:spPr>
          <a:xfrm>
            <a:off x="5410080" y="3276720"/>
            <a:ext cx="28195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b400"/>
                </a:solidFill>
                <a:latin typeface="Georgia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b400"/>
                </a:solidFill>
                <a:latin typeface="Georgia"/>
              </a:rPr>
              <a:t>I will work with the school electrician to learn the tr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9" descr="http://visionsteen.com/blog/uploaded_images/teen-drugs-7355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9432b"/>
                </a:solidFill>
                <a:latin typeface="Neurochrome"/>
              </a:rPr>
              <a:t>DRUG ABUSE AND ADDIC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380520" y="2514600"/>
            <a:ext cx="40388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373d"/>
                </a:solidFill>
                <a:latin typeface="Baveuse"/>
              </a:rPr>
              <a:t>Project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373d"/>
                </a:solidFill>
                <a:latin typeface="Baveuse"/>
              </a:rPr>
              <a:t>	</a:t>
            </a:r>
            <a:r>
              <a:rPr b="0" lang="en-US" sz="1800" spc="-1" strike="noStrike">
                <a:solidFill>
                  <a:srgbClr val="2a373d"/>
                </a:solidFill>
                <a:latin typeface="Baveuse"/>
              </a:rPr>
              <a:t> </a:t>
            </a:r>
            <a:r>
              <a:rPr b="0" lang="en-US" sz="1800" spc="-1" strike="noStrike">
                <a:solidFill>
                  <a:srgbClr val="2a373d"/>
                </a:solidFill>
                <a:latin typeface="Baveuse"/>
              </a:rPr>
              <a:t>I will create an awareness program and present it to high school student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876920" y="34290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373d"/>
                </a:solidFill>
                <a:latin typeface="Baveuse"/>
              </a:rPr>
              <a:t>Research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373d"/>
                </a:solidFill>
                <a:latin typeface="Baveuse"/>
              </a:rPr>
              <a:t>	</a:t>
            </a:r>
            <a:r>
              <a:rPr b="0" lang="en-US" sz="1800" spc="-1" strike="noStrike">
                <a:solidFill>
                  <a:srgbClr val="2a373d"/>
                </a:solidFill>
                <a:latin typeface="Baveuse"/>
              </a:rPr>
              <a:t>I will research the different types of drugs that are commonly used and their symptom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980720" y="6248160"/>
            <a:ext cx="40388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373d"/>
                </a:solidFill>
                <a:latin typeface="Baveuse"/>
              </a:rPr>
              <a:t>By: Rashonda Ratcliff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8" descr="http://www.autism2allstar.com/images/events/autism%20blaneket.JPG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6172200"/>
          </a:xfrm>
          <a:prstGeom prst="rect">
            <a:avLst/>
          </a:prstGeom>
          <a:ln w="0">
            <a:noFill/>
          </a:ln>
        </p:spPr>
      </p:pic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276360" y="152280"/>
            <a:ext cx="1904760" cy="609840"/>
          </a:xfrm>
          <a:prstGeom prst="rect">
            <a:avLst/>
          </a:prstGeom>
          <a:solidFill>
            <a:srgbClr val="abf9f9"/>
          </a:solidFill>
          <a:ln w="9360">
            <a:solidFill>
              <a:srgbClr val="d16349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d0d"/>
                </a:solidFill>
                <a:latin typeface="Heavy Heap"/>
              </a:rPr>
              <a:t>AUTISM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Flowchart: Data 9"/>
          <p:cNvSpPr/>
          <p:nvPr/>
        </p:nvSpPr>
        <p:spPr>
          <a:xfrm>
            <a:off x="6934320" y="152280"/>
            <a:ext cx="2209680" cy="2210040"/>
          </a:xfrm>
          <a:prstGeom prst="flowChartInputOutpu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I will prove that children with autism can function in the world the same as everyone el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lowchart: Data 11"/>
          <p:cNvSpPr/>
          <p:nvPr/>
        </p:nvSpPr>
        <p:spPr>
          <a:xfrm>
            <a:off x="0" y="4419720"/>
            <a:ext cx="2133720" cy="2209680"/>
          </a:xfrm>
          <a:prstGeom prst="flowChartInputOutpu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I will spend 15+ hours working at an elementary school with the autistic childr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lowchart: Data 13"/>
          <p:cNvSpPr/>
          <p:nvPr/>
        </p:nvSpPr>
        <p:spPr>
          <a:xfrm>
            <a:off x="3124080" y="6400800"/>
            <a:ext cx="4038840" cy="307800"/>
          </a:xfrm>
          <a:prstGeom prst="flowChartInputOutput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LATOYA QUAR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0:59:55Z</dcterms:created>
  <dc:creator>carljones</dc:creator>
  <dc:description/>
  <dc:language>en-US</dc:language>
  <cp:lastModifiedBy>Michele Armstrong</cp:lastModifiedBy>
  <dcterms:modified xsi:type="dcterms:W3CDTF">2011-07-25T02:29:46Z</dcterms:modified>
  <cp:revision>95</cp:revision>
  <dc:subject/>
  <dc:title>Slide 1</dc:title>
</cp:coreProperties>
</file>